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34B-361A-44D7-8351-28843848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000-A349-414B-A705-DA30E0D8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4AC-877E-43E6-A0FC-2A944822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A18-27E0-48B2-A5DE-D7EA7AA8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AFC-D0B3-451A-8221-514FD703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41B-AB56-4304-99C6-F5216330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940-C029-40B0-9825-76EFA3F3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972-8565-4B2D-B0AA-805E5A56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62D-0956-4BC6-9333-CED35ECE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6E5-FCE0-4A7F-8134-7C50F53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025-70D6-4F97-9B8E-78117D1B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028-C7A2-49D9-B617-B2395B11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D474-825A-4E3C-A01F-B650590FFD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Trebuchet MS"/>
              </a:rPr>
              <a:t>Bases de dades amb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se de dad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és un fitxer que conté dades relacionades d'una activitat, d’una empresa, entitat públic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 exemple, la base de dades de tots els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acie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d’un Hosp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33560" y="2433600"/>
            <a:ext cx="288612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Formul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 formularis permeten introduir o veure dades fàcil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n i simplifiquen la l’entrada de dades, que es guarden a la taula corresponent de la base de da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11840" cy="226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info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en les dade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 informes adopten diferents formes, estan pensats per a  presentar les dades en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 imprè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és conveni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1787400"/>
            <a:ext cx="3745080" cy="37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99"/>
                </a:solidFill>
                <a:latin typeface="Trebuchet MS"/>
              </a:rPr>
              <a:t>Web</a:t>
            </a:r>
            <a:r>
              <a:rPr b="0" lang="ca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4400" spc="-1" strike="noStrike">
                <a:solidFill>
                  <a:srgbClr val="333399"/>
                </a:solidFill>
                <a:latin typeface="Trebuchet MS"/>
              </a:rPr>
              <a:t>dinà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Una pàgina d’accés a dades es una web que està directament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connectada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a una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 dades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i que permet compartir-la amb altres usuaris de la xarx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Els usuaris actualitzen o consulten les dades dins una intranet o a la Xarxa Internet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240360" cy="320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Avantatges d’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de les principals avantatges del programa és que evita les complicacions d’emprar un munt de llistes en arxius difer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288612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reball amb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Per una llista senzilla de preus, segurament n’hi ha prou amb un full, ... una llista amb vinyetes o una taula d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Si les dades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son més complexes o canvien constantment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, és molt més eficient una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ades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19640" y="2021040"/>
            <a:ext cx="331308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aule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s un conjunt de dades organitzades en files i colu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fila és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formació de cada individ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columna és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da característica dels individ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219560" cy="31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au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relacion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rea bases de da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o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dades estan dins taules però es relacionen i es combinen segons el que ens interessi en el disseny de la base de 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19760" y="2955960"/>
            <a:ext cx="1695600" cy="181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es relac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relac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nculen les dades de las distintes taules para que ens siguin més út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671640" cy="2544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4724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869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1 )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id. de empleado apareix a les 2 taules, com a clau principal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  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..y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(2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m a clau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Objec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d’u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bases d’ Access estan formades p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a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enen  les dades en filles i columnes. Totes les bases contenen una o més ta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nsul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uperen i processen les dades. Poden  combinar dades de diferents taules, actualitzar les dades i  fer càlculs amb aquestes 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mular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olen l’entrada de dades i la forma en que es veuen. Proporcionen també indicacions que simplifiquen la fe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for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umeixen i també permeten imprimir llistats personalitzats de dades que considerem import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2886120" cy="2857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2556000" y="4292640"/>
            <a:ext cx="1511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842920" y="2421000"/>
            <a:ext cx="115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reball amb fine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finestra de la base ens mostra la llista d’objectes disponibles a la base de da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84720" y="2060640"/>
            <a:ext cx="4176720" cy="36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es consul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58920" y="1700280"/>
            <a:ext cx="36831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a respondre preguntes, les consultes recuperen, filtren, ordenen i associen les 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és,  poden  combinar les dades de varies taules en una sola vis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4392720" cy="19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7:57:49Z</dcterms:created>
  <dc:creator>Esteve Campins</dc:creator>
  <dc:description/>
  <dc:language>en-US</dc:language>
  <cp:lastModifiedBy>Esteve Campins</cp:lastModifiedBy>
  <dcterms:modified xsi:type="dcterms:W3CDTF">2006-01-04T19:34:31Z</dcterms:modified>
  <cp:revision>13</cp:revision>
  <dc:subject/>
  <dc:title>Bases de dades amb Access</dc:title>
</cp:coreProperties>
</file>